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41506"/>
        <c:axId val="6557886"/>
      </c:barChart>
      <c:catAx>
        <c:axId val="58141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7886"/>
        <c:crosses val="autoZero"/>
        <c:auto val="1"/>
        <c:lblAlgn val="ctr"/>
        <c:lblOffset val="100"/>
        <c:noMultiLvlLbl val="0"/>
      </c:catAx>
      <c:valAx>
        <c:axId val="6557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41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659-5D55-43E4-A9BA-EF403C36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C08B-B125-4E40-943C-9ABB1DC1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23E-D888-4537-91FF-DF0AA71A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9C4-D316-48AD-9575-72EB68E7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A9C-DEF8-4C36-8EF4-FDEFFED7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C8A-D06A-47DF-A55C-10C98C1E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4670-1B61-4547-801D-65765212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7E9-B89E-4F96-B011-B45E46F9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26E-54E9-4769-B7A5-F98763A9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369-2A98-47B6-BA9C-53A15F22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5AE-4F3E-4DD0-B983-DA11C0DD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102-36E5-486C-8A3D-331C0249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E28F5-7E3F-4B44-AB5A-2E8D90FF06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