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369916"/>
        <c:axId val="36770646"/>
      </c:barChart>
      <c:catAx>
        <c:axId val="70369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70646"/>
        <c:crosses val="autoZero"/>
        <c:auto val="1"/>
        <c:lblAlgn val="ctr"/>
        <c:lblOffset val="100"/>
        <c:noMultiLvlLbl val="0"/>
      </c:catAx>
      <c:valAx>
        <c:axId val="36770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69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681-D6D1-4A24-978D-DD38EAB9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C249-DDFB-430A-83A5-7B900453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312-8431-49B5-9851-2F4E53CE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573F-22EB-4853-81AB-B2C0257A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18A9-5261-4060-9391-C72A4313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0170-BBF8-4A8F-967E-0B25ECDE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8C9C-7C7B-4430-B7C9-FE273CA2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34C-BA90-4A07-BBC4-3C217663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BF25-C6EF-496D-8C02-7B64A2D2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C41-371A-4FCD-A488-E1FE2C4C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06D1-0F5A-4E5A-8851-0CEAF074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86B-748D-44FC-8072-CE6561DC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F9F4D-3C7B-46B7-94BA-17EA3BD406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