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8020"/>
        <c:axId val="70815062"/>
      </c:barChart>
      <c:catAx>
        <c:axId val="58858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15062"/>
        <c:crosses val="autoZero"/>
        <c:auto val="1"/>
        <c:lblAlgn val="ctr"/>
        <c:lblOffset val="100"/>
        <c:noMultiLvlLbl val="0"/>
      </c:catAx>
      <c:valAx>
        <c:axId val="70815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8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7F6-7D4C-4987-B750-1197A49C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AE0-7914-483A-A309-26FD18B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C7-AEC7-4919-B46A-9194B886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4CF-8C03-4DD0-A1BD-1798DFEC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1B4-98FB-45EE-977E-2A0A10C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406-3730-4B90-BE03-7E5ACAD7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784-1E6F-48B0-8CF4-E8C0EB4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37B-1ABE-4700-A02F-626BC7D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A71-1C04-4137-AED3-377A708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B78-F1EF-420A-89BD-22F0306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401-943B-4FB5-943B-AF9DDDC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39C-D9B4-474D-84A1-2C566C5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B7166-CEE1-42E5-BF40-89F4ACC4E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