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85204"/>
        <c:axId val="90796809"/>
      </c:barChart>
      <c:catAx>
        <c:axId val="22585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6809"/>
        <c:crosses val="autoZero"/>
        <c:auto val="1"/>
        <c:lblAlgn val="ctr"/>
        <c:lblOffset val="100"/>
        <c:noMultiLvlLbl val="0"/>
      </c:catAx>
      <c:valAx>
        <c:axId val="90796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5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726-19AB-4509-BA36-BEBD8066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9E3-91B8-4AEF-AE99-7BBAFB4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701-E428-443F-9741-1AEB638D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0F6-85C7-4483-8FCC-DD950F2A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E49-2F91-4255-A175-B81C51F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6AB-4462-4048-AF21-71F2931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B23-4026-46F9-9BC4-5377818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D71-A3BA-4537-B458-CA7664FA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8DE-6993-4358-AFEE-8880611B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5D4-1614-44A7-8F61-7D8C0A9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8B4-FFAB-4126-8A94-1184115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12E-A8C7-48C6-84A5-21E3516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3F8D4-9440-48B1-95CB-7D58F2448C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