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71299"/>
        <c:axId val="78901831"/>
      </c:barChart>
      <c:catAx>
        <c:axId val="79271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1831"/>
        <c:crosses val="autoZero"/>
        <c:auto val="1"/>
        <c:lblAlgn val="ctr"/>
        <c:lblOffset val="100"/>
        <c:noMultiLvlLbl val="0"/>
      </c:catAx>
      <c:valAx>
        <c:axId val="78901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71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FDB-62F0-46EE-809B-C3F2D022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742-556E-4C6F-AF2D-B31E7713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6A5-4748-424D-A3CA-91C185BE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9EE-B691-44AE-80E9-F7B6E900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8E5-CA93-45CF-91B8-9ED4D430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5D4-0645-42EF-89B6-9EE117B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916-EB7C-4D21-88E6-B8BEBF2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5E4-F603-482C-9CF9-98555177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006-BE51-4DC9-ADDE-A8886DEC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63A-F7AB-4BBB-BB7C-0801CAC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637-C567-457D-804D-7B8136B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44D-C9F2-4035-86D2-6715E90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30CA-4664-4DA1-B94B-905AAEC95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