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14690"/>
        <c:axId val="90622700"/>
      </c:barChart>
      <c:catAx>
        <c:axId val="65214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22700"/>
        <c:crosses val="autoZero"/>
        <c:auto val="1"/>
        <c:lblAlgn val="ctr"/>
        <c:lblOffset val="100"/>
        <c:noMultiLvlLbl val="0"/>
      </c:catAx>
      <c:valAx>
        <c:axId val="90622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14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7DC-5181-40A1-A3BD-6086A66D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353-06E3-4540-89DC-74E355CA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02C-6900-4FE5-8291-5D8FB8C8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92F-7983-4F17-AD8B-B058D633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17F-809A-4058-BE10-04A54C02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207-8CBA-42B4-8537-B9930F00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7BC-160B-411D-A560-4984D38F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2B6-20DB-4643-8E47-94A17632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CCE-0CE1-4AA1-AB4F-5ECAF884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8D7-E68A-4765-86A9-8041A434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F59-7041-4F66-81F0-453911AE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992-E584-4B5B-868E-2AA228AF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55C17-038B-4187-90E6-03C75AFC97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