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08125"/>
        <c:axId val="16386238"/>
      </c:barChart>
      <c:catAx>
        <c:axId val="9308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86238"/>
        <c:crosses val="autoZero"/>
        <c:auto val="1"/>
        <c:lblAlgn val="ctr"/>
        <c:lblOffset val="100"/>
        <c:noMultiLvlLbl val="0"/>
      </c:catAx>
      <c:valAx>
        <c:axId val="16386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8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D88-3D49-4576-B6AE-9F8BF466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ED0-D492-4991-80B1-ED6C9C59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572-2071-4F0A-8DF3-8F1DAB69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2B8-7FC4-46C2-98E5-7E0CD2D6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782-E91A-4ACE-805A-FDFD7C78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21F-9990-4261-9448-7049043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052-DC84-4DCB-9118-6E42AEE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6C7-5EC0-47FA-ACC0-CFAA579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2B1-A690-41D7-9006-DDA57F1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BA3-F59E-410E-ACC0-28078CB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29D-A3A8-4F02-A7AD-84FF188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EBE-BBE5-400C-87CF-342B033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188FA-085D-41FD-A121-14722957E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