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67082"/>
        <c:axId val="95243348"/>
      </c:barChart>
      <c:catAx>
        <c:axId val="27867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43348"/>
        <c:crosses val="autoZero"/>
        <c:auto val="1"/>
        <c:lblAlgn val="ctr"/>
        <c:lblOffset val="100"/>
        <c:noMultiLvlLbl val="0"/>
      </c:catAx>
      <c:valAx>
        <c:axId val="95243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67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8B2-7944-422E-ABFC-E3B17055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C34-B197-4953-BEA4-1C52D623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798-4EC6-45FE-8BBE-1195EA25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18A-3142-4F2A-9B60-1EA39B43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6A5-BB34-4F61-98EB-C2BC704A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B2A-0ACC-4E1F-BAB9-D1271F1F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FF4-6668-449D-A5C1-76AE2643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192-9CC4-415E-B2DF-ED0CC55B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B68-3D81-45A6-9521-46B2DB4C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B8C-DCC3-4EDF-B8A1-1D2206EA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5E4-41B0-4571-970F-C3A1800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7EE-D643-4FF8-BD0B-D64F6CA8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2D864-4DF0-44F9-B626-F94320D3B8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