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552936"/>
        <c:axId val="11120907"/>
      </c:barChart>
      <c:catAx>
        <c:axId val="435529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120907"/>
        <c:crosses val="autoZero"/>
        <c:auto val="1"/>
        <c:lblAlgn val="ctr"/>
        <c:lblOffset val="100"/>
        <c:noMultiLvlLbl val="0"/>
      </c:catAx>
      <c:valAx>
        <c:axId val="111209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5529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E38F-2ADB-481D-BA15-A1F798ADD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64F5-20EF-4A62-833E-B8C67E0A6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F565-60D0-4AB7-AD91-5E4796882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CE0B-5829-4EF9-940D-2A3CAD103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BC4F-006E-41D1-8436-3504CA41C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AD3D-1BBE-41FD-83A0-D86FAF900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6AE7-3680-4B2D-876C-E4C5634C1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F4C6-6CA0-4CF3-8B1C-9F5675983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5387-C8CD-4C8C-9DC5-F8CB12A8D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EED3-C651-4649-A4E5-9B61D329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81E6-1181-4F12-B346-2747CF50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A95E-BFD3-4F03-A056-D21CBA5D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9CED3C-1209-426F-85F4-42F2C22A3DF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