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9063"/>
        <c:axId val="63711182"/>
      </c:barChart>
      <c:catAx>
        <c:axId val="97190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11182"/>
        <c:crosses val="autoZero"/>
        <c:auto val="1"/>
        <c:lblAlgn val="ctr"/>
        <c:lblOffset val="100"/>
        <c:noMultiLvlLbl val="0"/>
      </c:catAx>
      <c:valAx>
        <c:axId val="637111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90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85BF-1213-4C03-85A4-72098D2B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0E2B-1BD9-4DAF-917A-EF8FF9CE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5CCE-2C5A-4C06-A08D-E85E0671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67B7-A3DB-4D43-93C8-C99F3C3D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9BC3-38A9-436E-AD41-5C707F66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9A5B-1F6E-41A8-B641-04716B3E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0836-F9BB-459F-A5EB-1F28C833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15E2-D405-45E1-ADF8-9D601067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8ABF-43B3-4766-9AD2-EA499167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A9F2-AF4E-4D0A-AB9F-852D155D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61F-A587-49D8-9075-96F13078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37E-EBC4-4617-A105-C7CB3182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B797C-426D-4D7B-92B0-4612D57C76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