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58371"/>
        <c:axId val="96201968"/>
      </c:barChart>
      <c:catAx>
        <c:axId val="152583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01968"/>
        <c:crosses val="autoZero"/>
        <c:auto val="1"/>
        <c:lblAlgn val="ctr"/>
        <c:lblOffset val="100"/>
        <c:noMultiLvlLbl val="0"/>
      </c:catAx>
      <c:valAx>
        <c:axId val="962019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583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19B-4A38-4E04-BFB1-71AA14EC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800-B5BA-4C27-9B63-55B8B288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90F2-94AF-408A-A217-2A9A56EE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2A4-11FE-480E-8BAC-08241FE1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2E5-1052-4C5A-A2BF-75303ABE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F24-2E4B-4329-9B6B-F1EBA3DB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C2D-84C3-471A-8473-C2BD5470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5EC-731D-458F-B7A2-40045470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F0AA-7913-4D49-91F0-D765B4E2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F43-A38E-4704-8EDA-41ABBB61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F9B-4C2F-4409-AF98-F218B031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35C-2072-41CB-B9DE-95ACBEC7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55F8F-C13C-431A-99AB-6DCEBA033E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