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88773"/>
        <c:axId val="45585735"/>
      </c:barChart>
      <c:catAx>
        <c:axId val="14888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85735"/>
        <c:crosses val="autoZero"/>
        <c:auto val="1"/>
        <c:lblAlgn val="ctr"/>
        <c:lblOffset val="100"/>
        <c:noMultiLvlLbl val="0"/>
      </c:catAx>
      <c:valAx>
        <c:axId val="45585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88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BA5-09C2-4F83-96C0-F3A3CAED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31C-1853-480A-B594-AEF4A073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397-30A6-4E94-90E0-D1FB7A79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08E-2ECC-423D-8A8F-B73AEF51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DA4-996A-4348-9415-0B6CE652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EE6-960D-4097-8078-686F3EB9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E4D-1A36-4ADE-8964-88E00A2C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B6F-A280-4673-8C2E-1BBD2437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2B6-7D6D-4C93-A765-A35E7441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830-B406-4F70-97AF-B18A6C70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276-1DB9-4BE5-894F-4F2C3600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BEB-AFA0-483B-940D-A0899E4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5780A-0689-45E9-B529-A38444AC07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