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0285361"/>
        <c:axId val="93614467"/>
      </c:barChart>
      <c:catAx>
        <c:axId val="8028536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614467"/>
        <c:crosses val="autoZero"/>
        <c:auto val="1"/>
        <c:lblAlgn val="ctr"/>
        <c:lblOffset val="100"/>
        <c:noMultiLvlLbl val="0"/>
      </c:catAx>
      <c:valAx>
        <c:axId val="9361446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28536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03F7-CECF-4667-B98E-6596D4419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03A5-8154-4D29-9EE9-FD49DBF80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7D9E-143A-4D81-B0C1-510705C64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B72A-AAEC-43B2-B889-C532B75E3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3C29-E99B-4D30-861C-585CA4006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BAAD-80DA-4B5C-AB9F-E1CC2D38F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7364-0C07-4BC0-B30D-A1A819EE6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E6DD-A0F4-4CE9-BAD9-20857E9DA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00AC-93C0-4034-8167-6BB2AA94D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FB80-544C-463B-9D99-BA41F2479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9A0E-3EFA-482B-8A71-BEDA8DC4F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AA81-8D7A-4E7B-B556-968344366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5A0572-418C-4154-9412-E6BA8DE9D95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