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21617"/>
        <c:axId val="86405196"/>
      </c:barChart>
      <c:catAx>
        <c:axId val="65421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05196"/>
        <c:crosses val="autoZero"/>
        <c:auto val="1"/>
        <c:lblAlgn val="ctr"/>
        <c:lblOffset val="100"/>
        <c:noMultiLvlLbl val="0"/>
      </c:catAx>
      <c:valAx>
        <c:axId val="86405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21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C1D-E644-4D3D-B640-2D231CA4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837-8ED3-40AD-80E0-BBDAD42F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6BE-F762-48B4-AA63-CF4D015D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F69-63B3-40D2-A4F3-0AAA3C8E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B8A-9210-4D1A-B8AC-71AF7DE0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B22-8D06-4CD9-9C4D-DE812D5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28C-D782-420D-9A48-75B05C5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974-7287-40D0-B95F-8C29945F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C98-79B9-4D3B-8AFE-0B1F4061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BFA-9F8A-4DDC-924B-0DB93CB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5D7-81A2-4A3D-B6CD-02A52D4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69F-D901-4FED-BFA3-4E94E39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30B7-BA86-4995-9D02-859246B82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