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8276131"/>
        <c:axId val="28692598"/>
      </c:barChart>
      <c:catAx>
        <c:axId val="4827613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692598"/>
        <c:crosses val="autoZero"/>
        <c:auto val="1"/>
        <c:lblAlgn val="ctr"/>
        <c:lblOffset val="100"/>
        <c:noMultiLvlLbl val="0"/>
      </c:catAx>
      <c:valAx>
        <c:axId val="2869259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27613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32602-6BD7-40E3-9A2F-94ABC14D2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B1B3D-1F33-4BE9-8BBC-64EB600EA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246C3-943F-4FD7-843A-F8985D7DA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22F7D-A3E3-4B3B-926B-B6D1F2B96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F435F-2C2F-4074-BEC0-4C3494F30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4B1A7-2530-4442-AFE8-43FB95EE7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58E4A-60C8-4945-97A3-0A78CA5B3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2C117-78F7-485C-9E25-915CA8FD1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EBA90-E4A7-44F8-BD99-72127A13A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21F96-66CA-4FC6-B41A-E18A5E06D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37B85-4E09-47F2-AD92-5E515D419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A9AA0-317D-4511-9AE3-A4B52D303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2CF4ED-9B8C-4B2C-9398-B548A0B6E42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