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275629"/>
        <c:axId val="95993919"/>
      </c:barChart>
      <c:catAx>
        <c:axId val="672756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93919"/>
        <c:crosses val="autoZero"/>
        <c:auto val="1"/>
        <c:lblAlgn val="ctr"/>
        <c:lblOffset val="100"/>
        <c:noMultiLvlLbl val="0"/>
      </c:catAx>
      <c:valAx>
        <c:axId val="959939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756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0373-A3C8-4A6C-A526-E9B7DA36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F5B7-CD08-46E6-A301-4470FB8E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EDD2-84C3-4FDB-A3FB-7F4E355C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3898-6F05-40AF-9BD8-FD497BF4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A7D2-3B65-4DE6-A0BB-FC63DFAE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3EB1-E57F-46E6-8392-11334053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10A5-A5BE-4A09-91A9-2D97983C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9137-C642-4124-AA0C-CCFFD76A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0ACC-9D34-4E3D-85E7-D14C0AB0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C876-9D74-4429-A64C-5D359F45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FBB6-5367-46A3-B96C-0CAE63E0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F7EA-F5E8-4D6A-88B7-B8E884C2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B000A-C94C-4DEE-A192-804355AE72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