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35256"/>
        <c:axId val="89569133"/>
      </c:barChart>
      <c:catAx>
        <c:axId val="49035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69133"/>
        <c:crosses val="autoZero"/>
        <c:auto val="1"/>
        <c:lblAlgn val="ctr"/>
        <c:lblOffset val="100"/>
        <c:noMultiLvlLbl val="0"/>
      </c:catAx>
      <c:valAx>
        <c:axId val="89569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35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F92-0BFE-4BAE-81A0-48C019CD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859-FA51-4D66-9DC1-30AE17B3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1B9-72EE-47EE-BC11-CC609164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C93-B613-4588-9AB7-92160912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72A-626A-4D6A-8837-E0AACEE5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EB3-F91E-4435-8CC8-FBFD1EEB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4F7-EAC4-40E0-B268-B1B51F5B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6CA-ACD4-44C1-80E4-0AD4B0B6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0EC-AE1A-46F6-828D-0B1E1D3D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B75-6DE5-474C-A9F3-07E38B96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B2E-1D0A-4884-A066-DE2DAE9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82E-AF1F-4A55-AA31-A8F01141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E400B-BF37-4458-B97B-5EC9B16D90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