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368384"/>
        <c:axId val="6057719"/>
      </c:barChart>
      <c:catAx>
        <c:axId val="193683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57719"/>
        <c:crosses val="autoZero"/>
        <c:auto val="1"/>
        <c:lblAlgn val="ctr"/>
        <c:lblOffset val="100"/>
        <c:noMultiLvlLbl val="0"/>
      </c:catAx>
      <c:valAx>
        <c:axId val="60577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3683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8F7E-5F11-42CF-BDB4-DBD62FDEE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9F33-F8CD-45CD-9C22-CB88330EB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8F0A-69B6-4A0A-9EB1-2F44CDD7A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FE42-AC4F-4B61-B998-24A16D866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8425-55CD-480F-B826-29AC71D41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324C-E8D2-439B-9DBE-BF11BDE9F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7331-0B66-4CEC-BC95-95E8EC93B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3EE1-5967-48C4-B81D-50FEE0A70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988C-B0E0-460E-AF5E-1EF3B48BD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F800-2668-43AD-93F6-0EB0D8B85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6031-0A28-407C-A399-29155090F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C566-315B-4989-957A-C2B7CBB63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BB8954-501D-460F-BCE4-1691EF32A08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