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38125"/>
        <c:axId val="99672929"/>
      </c:barChart>
      <c:catAx>
        <c:axId val="25838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72929"/>
        <c:crosses val="autoZero"/>
        <c:auto val="1"/>
        <c:lblAlgn val="ctr"/>
        <c:lblOffset val="100"/>
        <c:noMultiLvlLbl val="0"/>
      </c:catAx>
      <c:valAx>
        <c:axId val="99672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38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4E8-DC8C-4252-B9DA-1F85EDAE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F32-3DE9-4293-A861-BB5DEC79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1A5-D139-4BF1-9C6D-BC024086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8B5-4535-44A5-9CA1-AD9CEC95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E15-C728-457B-ABA2-ADB5F94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9E9-5157-4A91-898F-DBFBA057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5A3-7C1D-4E80-8845-8B3C486F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041-7E7A-4279-A087-F7AFB5C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B7F-B30A-4810-933C-81C7D216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3BF-4B37-4AD7-91CC-EFA8F6E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30C-B20E-482C-B623-D634F4E0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BCB-2934-4415-A7A2-1F9D9C6B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B4F56-2E6B-417F-BDCC-E8A0F008C7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