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31845"/>
        <c:axId val="29989860"/>
      </c:barChart>
      <c:catAx>
        <c:axId val="87131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9860"/>
        <c:crosses val="autoZero"/>
        <c:auto val="1"/>
        <c:lblAlgn val="ctr"/>
        <c:lblOffset val="100"/>
        <c:noMultiLvlLbl val="0"/>
      </c:catAx>
      <c:valAx>
        <c:axId val="29989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1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F5E-E62E-4C39-A2F3-FB182D94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CF4-49B3-4ABA-BC64-39F9340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021-DEF3-4946-B30A-560CCBC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748-7690-4B18-AAC7-02394B9E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295-3DE0-4625-9E17-63D81DF9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2AD-04C8-485B-B74E-162BF6B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6B5-1D6D-4F4D-AD75-C6B420B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D2E-F4C1-4EC2-8418-840D274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FC7-9784-40C0-9350-42F3922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91B-F607-44CD-9176-B39F530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B61-3D88-4DEE-927A-14081CF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5B1-2C5C-493D-B48D-658B5D3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EDFF-8E24-45D0-80D6-0536577957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