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564804"/>
        <c:axId val="38081652"/>
      </c:barChart>
      <c:catAx>
        <c:axId val="915648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81652"/>
        <c:crosses val="autoZero"/>
        <c:auto val="1"/>
        <c:lblAlgn val="ctr"/>
        <c:lblOffset val="100"/>
        <c:noMultiLvlLbl val="0"/>
      </c:catAx>
      <c:valAx>
        <c:axId val="380816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648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8F9C-2ED5-4DDA-8598-158D460F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2451-A38B-41E5-8720-44108D11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5461-8B7F-4F85-B28F-790A7089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CB88-4C78-4965-9B20-D37D00FE1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1B98-5A62-4B8D-B439-9BC1509A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C998-798B-4B11-ABF6-BF27E6C2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638E-B910-4FC9-A150-08F746C7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4036-E9C2-4E67-82DB-E0642D45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2E16-C0F1-4146-9F4A-1F09E71D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6189-6C05-4CD8-A2F7-7731DF26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4C1F-8DF7-47A2-94A9-20016022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BFD5-C8AF-4DDC-974E-258C4664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8A9E9-2CDD-4AA3-A861-ADC407E4DE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