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20729"/>
        <c:axId val="61609443"/>
      </c:barChart>
      <c:catAx>
        <c:axId val="44420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9443"/>
        <c:crosses val="autoZero"/>
        <c:auto val="1"/>
        <c:lblAlgn val="ctr"/>
        <c:lblOffset val="100"/>
        <c:noMultiLvlLbl val="0"/>
      </c:catAx>
      <c:valAx>
        <c:axId val="61609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0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D4B-56FC-470D-B80E-75FD5E1A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146-D4D4-4E34-8F2A-54F63E45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FB4-D4EC-423D-AF7B-E01C960B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BFC-CBA8-4FE4-BE66-3994EC74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D64-0C47-4491-B6DE-DD3C593C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64A-CD4B-48B8-8BDD-B4984CEB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9F3-D123-4431-8E7D-CF74198C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033-4CDF-4186-A43A-60C8608B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A99-087F-46B3-A78F-536FEF18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808-05D2-4539-98DB-458065C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1CC-1DF1-4EE9-9966-78A2E08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23B-C08B-40F3-9AFD-587EFF8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4384-7CB7-409C-837B-4BA187CB5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