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98551"/>
        <c:axId val="11683890"/>
      </c:barChart>
      <c:catAx>
        <c:axId val="99098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83890"/>
        <c:crosses val="autoZero"/>
        <c:auto val="1"/>
        <c:lblAlgn val="ctr"/>
        <c:lblOffset val="100"/>
        <c:noMultiLvlLbl val="0"/>
      </c:catAx>
      <c:valAx>
        <c:axId val="11683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98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731-A849-4561-A8C9-0AABA1DE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EFE-AAF2-4C5C-8F6E-64B9228C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421-C46D-4507-81CD-1A56B6BC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BBB4-AECF-4F55-B610-7296FF7C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840-C5A4-48D7-8949-0090C0BC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CB0-E194-4E31-AD39-2FDD6F4F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1F9-BD6F-40FB-8FE5-11FAC059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ADC-858A-495C-AAA3-0D89A582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B17-9FC3-4A0B-B38F-FA99C776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6FF-DDE7-4B3F-B99C-DF0D351E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78F-B221-43B8-98C2-9C91CDA0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313-7DC3-4227-99B3-BD6DCBCF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B8CC9-5C1B-427C-BF57-B5BCD07199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