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938639"/>
        <c:axId val="51152130"/>
      </c:barChart>
      <c:catAx>
        <c:axId val="119386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152130"/>
        <c:crosses val="autoZero"/>
        <c:auto val="1"/>
        <c:lblAlgn val="ctr"/>
        <c:lblOffset val="100"/>
        <c:noMultiLvlLbl val="0"/>
      </c:catAx>
      <c:valAx>
        <c:axId val="511521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9386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0467-3E4E-49D5-AE70-844EB588E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1952-8D69-4C84-A8C4-24E39AD2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D939-7680-4265-AF29-E72D2645A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1B40-3ED2-4119-BC8A-0C53B93AE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FF45-5821-44BA-861C-30B075A4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D398-84B4-45C3-BE66-15D75369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DF93-A5F5-480B-8DF6-426C0A8E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989A-76B9-4E55-8B1F-34923257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A828-719C-4974-B936-BBAC0462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8BF2-6385-4FEA-BECE-BB461D57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17CC-17EC-4A39-B7CF-58CB6EDC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5F04-090C-4C6A-94E5-FB15C636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9D63AA-2172-4875-9538-5B9B34372C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