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09818"/>
        <c:axId val="17650711"/>
      </c:barChart>
      <c:catAx>
        <c:axId val="71709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0711"/>
        <c:crosses val="autoZero"/>
        <c:auto val="1"/>
        <c:lblAlgn val="ctr"/>
        <c:lblOffset val="100"/>
        <c:noMultiLvlLbl val="0"/>
      </c:catAx>
      <c:valAx>
        <c:axId val="17650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09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A58-A976-4905-93D0-C00C9A12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1E8-D1DA-4B31-BE84-0016BBFC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DA0-F0B2-4F41-B550-BB084889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C1D-C075-4093-8011-552EF05D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ECF-56AE-4950-950A-4ADC564E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66D-EDA9-406E-AD9A-00D26F15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D20-CE0A-405D-B9AF-35D032A5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C7F-D897-4C8B-95C2-9C115A83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2F0-C090-4912-9804-002CF13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6D5-B2D7-458D-B397-567771A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C2A-0F67-4460-9120-ED0ECCC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B62-0D7A-4127-B07F-93FC213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F7871-A648-48A3-923A-FE45296B3A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