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55185"/>
        <c:axId val="58273885"/>
      </c:barChart>
      <c:catAx>
        <c:axId val="25855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3885"/>
        <c:crosses val="autoZero"/>
        <c:auto val="1"/>
        <c:lblAlgn val="ctr"/>
        <c:lblOffset val="100"/>
        <c:noMultiLvlLbl val="0"/>
      </c:catAx>
      <c:valAx>
        <c:axId val="58273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55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207-BA78-4024-88D1-2F58D49A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54A-81D3-4784-B3D9-2D8C534B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0CB-2EA3-47DB-B4DE-A36D3084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DF9-8728-4E84-92BB-FD0FFBF3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D07-7CCC-4494-9924-C33066F2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353-9A54-40DA-8179-546AE2AD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EBD-A719-45C2-B44A-1E354DC4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FB8-EFB1-4701-AD3E-0820906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4C2-A659-4FF9-A658-FFF24EA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86F-34D6-46C9-9085-36435EF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562-AD4D-43A9-8424-58CFC19C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4E3-C275-4315-99A2-564A1018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E321A-5629-466A-9EDA-BADF917421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