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05634"/>
        <c:axId val="16637976"/>
      </c:barChart>
      <c:catAx>
        <c:axId val="35205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37976"/>
        <c:crosses val="autoZero"/>
        <c:auto val="1"/>
        <c:lblAlgn val="ctr"/>
        <c:lblOffset val="100"/>
        <c:noMultiLvlLbl val="0"/>
      </c:catAx>
      <c:valAx>
        <c:axId val="16637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5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0F6-448C-4F0F-B02B-16CC34D0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369-8BB2-4BCA-A472-482C6052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50F-5AA5-49C1-9165-3FA51097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A3E-BD8D-40CE-A955-D562421A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C24-7D09-4CCC-951B-F420437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540-1AB6-4C41-BB98-052F757A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31A-E050-4ABA-88F2-4DC2FE03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C42-4DE8-4040-AC44-6F4F7EBA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3B5-F7BA-4CAC-9F02-7B3370A6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659-F3B2-4C78-AB26-91C3BEDE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5D0-51D3-40F0-9A48-CE6BAAF7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371-91E3-481B-BB7E-57BB34BB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BACEA-A015-4092-9DCC-2D70774928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