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4312"/>
        <c:axId val="97792322"/>
      </c:barChart>
      <c:catAx>
        <c:axId val="55834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92322"/>
        <c:crosses val="autoZero"/>
        <c:auto val="1"/>
        <c:lblAlgn val="ctr"/>
        <c:lblOffset val="100"/>
        <c:noMultiLvlLbl val="0"/>
      </c:catAx>
      <c:valAx>
        <c:axId val="97792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4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863-D1B2-47CE-856A-84661828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B77-9CCD-4403-B5B7-60202399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6CF-789B-4D17-98F9-AB2904903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4D53-D9FD-4B3F-AAEA-5D492168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FE1-7A4A-407E-9984-5BBDAC6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B48-F509-47A4-9256-4450BE52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DCE-FD68-4B89-A658-7E572B9B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409-D786-4E59-8A01-E748204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7182-EF22-47BB-B436-D24CF30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EDE-AAAB-4553-B09D-A4CFAB0F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B57-59A0-4253-8CC4-598AE0B5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BDD3-E7CA-4B3B-8F38-01687422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6DDCA-F009-4A09-8D8B-5237FF4B7F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