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03572"/>
        <c:axId val="8463016"/>
      </c:barChart>
      <c:catAx>
        <c:axId val="15703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3016"/>
        <c:crosses val="autoZero"/>
        <c:auto val="1"/>
        <c:lblAlgn val="ctr"/>
        <c:lblOffset val="100"/>
        <c:noMultiLvlLbl val="0"/>
      </c:catAx>
      <c:valAx>
        <c:axId val="8463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03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408-FEDA-4832-8581-99C03CC6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1CE-D982-48D1-A53C-8CD290FC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AE9-DB4D-4482-988B-0C51B5B7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95D-3F12-44DF-8957-A58EBEA9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D3F-F60C-4E35-A3D7-6BE5DC62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52D-8782-441F-9DBD-BB3CF7E6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5EF-FEFD-4797-A707-912D825E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001-9C9E-486A-B4A4-5E0DC14D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485-2213-45B0-8295-FDFD3885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685-05CB-41C7-971E-A73CFB6C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EE6-BD52-4AFC-BBE8-A7502C56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088-69DC-4A64-86FD-10BB0508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5F0BD-D3E3-4508-92B1-526F948586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