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07686"/>
        <c:axId val="63075291"/>
      </c:barChart>
      <c:catAx>
        <c:axId val="99707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5291"/>
        <c:crosses val="autoZero"/>
        <c:auto val="1"/>
        <c:lblAlgn val="ctr"/>
        <c:lblOffset val="100"/>
        <c:noMultiLvlLbl val="0"/>
      </c:catAx>
      <c:valAx>
        <c:axId val="63075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7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E46-4E0A-428F-8293-3C30B0E2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1F3-E06A-4FC4-AB3F-5D2A5F4C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2EF-7147-4285-9C57-05494953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C36-CE0A-4FC2-9223-C2073AD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4A7-CA47-4467-9810-5A2685FA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C35-A92A-4333-96E0-D47D533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6BA-E54E-42AC-A2B5-073971A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D88-D346-4C5E-A293-EF63A965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F30-171F-4F7B-A60C-011CAB49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195-C073-4B4D-A449-080EE7C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BD7-D4B1-4BB0-B94C-E887967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8DA-9859-42D3-B76C-79D0E61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4F8E2-6DD5-4BE3-A27E-2600FF295B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