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01539"/>
        <c:axId val="26111733"/>
      </c:barChart>
      <c:catAx>
        <c:axId val="11001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11733"/>
        <c:crosses val="autoZero"/>
        <c:auto val="1"/>
        <c:lblAlgn val="ctr"/>
        <c:lblOffset val="100"/>
        <c:noMultiLvlLbl val="0"/>
      </c:catAx>
      <c:valAx>
        <c:axId val="26111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1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D48-127F-47DD-9F09-8B84CF6A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2F4-7D03-4755-BD60-97F918CF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EB1-0FEF-4CB6-86A7-6DC20BDC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09E-9951-4364-9CEF-4766B16D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B3B-0C99-4D67-9176-AD93AB7F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5E8-ABB8-4880-ADBB-63119105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24D-B8A8-4C12-BA2D-25077248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500-D46E-4748-A563-19D10C2B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175-5BBB-4D00-9671-A3554E56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353-E225-4F94-9D49-867747EC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FBB-6FF4-49DA-BA6A-4255943D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373-C471-4622-9FEA-2875775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93E4D-90C4-4B8F-A7AA-859CE81290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