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9197"/>
        <c:axId val="89946910"/>
      </c:barChart>
      <c:catAx>
        <c:axId val="2339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6910"/>
        <c:crosses val="autoZero"/>
        <c:auto val="1"/>
        <c:lblAlgn val="ctr"/>
        <c:lblOffset val="100"/>
        <c:noMultiLvlLbl val="0"/>
      </c:catAx>
      <c:valAx>
        <c:axId val="89946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969-4CE7-46DB-A266-34331D4D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1F2-F783-4EF7-B8D6-F3C33396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A16-493D-4833-82A8-B631002B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A9C-EB23-4CDF-BFFB-654AB2B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D84-C901-4FBD-B6AD-DDA55C7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B67-08CA-4176-97FE-BD2D83B1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654-13A2-4ABF-A2DA-288ECC83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3BC-8DAE-427F-9A47-44F6EBF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724-481A-4004-88A6-E1790A2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B79-05FB-4B27-B1AD-1BCF603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29C-C91B-4218-9056-D12B9A4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A49-BF29-4443-A58A-8574365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518C0-9565-41ED-9451-D44438D4F2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