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44686"/>
        <c:axId val="16334234"/>
      </c:barChart>
      <c:catAx>
        <c:axId val="62544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34234"/>
        <c:crosses val="autoZero"/>
        <c:auto val="1"/>
        <c:lblAlgn val="ctr"/>
        <c:lblOffset val="100"/>
        <c:noMultiLvlLbl val="0"/>
      </c:catAx>
      <c:valAx>
        <c:axId val="163342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44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CA87-1ADA-4B5D-B908-0A30E4FF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418-FC31-4904-BDA5-C88E925A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551-45D8-483E-9EE3-BC1B83FA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074B-2610-48DF-838C-2A9A24F4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AC2D-273F-4FF5-A391-EC176916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DC0-40E3-43EE-91DC-083E1505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99F5-46D1-4E70-9118-041DDC40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4C4-DFCB-4B59-91C7-76EE196D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675-0C85-4C7E-9DE7-2EC93626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901-D991-4355-9949-0F09E2E2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DEAF-7795-47E5-97A5-7D903755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DF4-53A1-45B4-9ABE-F4D11D58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1074F-ABBB-4308-B552-8D57C2548C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