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47773"/>
        <c:axId val="53208330"/>
      </c:barChart>
      <c:catAx>
        <c:axId val="57847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08330"/>
        <c:crosses val="autoZero"/>
        <c:auto val="1"/>
        <c:lblAlgn val="ctr"/>
        <c:lblOffset val="100"/>
        <c:noMultiLvlLbl val="0"/>
      </c:catAx>
      <c:valAx>
        <c:axId val="53208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47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24B-F307-4BF3-9E79-A86EBAC4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08A-30E0-4561-9F8C-5AB9E0E5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638-1FA2-44C5-B4CE-17D3F7D5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64C-7F5B-4DE7-B8D3-86D0B22E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70E-B787-48D7-84A2-8A08B6EC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731-8382-4A7D-8B6E-EAD2F1B4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E5D-9DB8-4AED-A7BB-484BA827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428-C824-413A-A8B1-F7310C25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8FA-5552-431A-B010-37685B1C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EAD-0000-4E35-8B70-59E8EEE7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42B-300D-4FFE-9F7A-98F6160B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05B-12C5-430D-B427-2AAC32F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E0865-650A-4AC4-9A9D-90B80BF2C9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