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13256"/>
        <c:axId val="72021168"/>
      </c:barChart>
      <c:catAx>
        <c:axId val="30313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1168"/>
        <c:crosses val="autoZero"/>
        <c:auto val="1"/>
        <c:lblAlgn val="ctr"/>
        <c:lblOffset val="100"/>
        <c:noMultiLvlLbl val="0"/>
      </c:catAx>
      <c:valAx>
        <c:axId val="72021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13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DE3-7C0B-428F-B78F-8806FE59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A7E-F898-4252-AADC-169C572B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61C-2DA8-4219-8C1D-0E725ACD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E27-7B9B-4511-85CA-5502635B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044-1F4A-4584-AE66-0F023FA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78C-8346-4D35-82E6-B913F613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434-D597-40D2-B08E-832A51AE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D86-37FC-4BB7-9B99-2FD9054D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FB2-C073-4624-AF09-45E3B86B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655-392A-4F74-83F5-728315C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2BF-DFCC-46F7-A4DD-D421E54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676-4EE6-464C-A5DB-629EBCA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A950B-B9F4-4F7E-A713-6DCFFE7E4D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