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258"/>
        <c:axId val="75336598"/>
      </c:barChart>
      <c:catAx>
        <c:axId val="8759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36598"/>
        <c:crosses val="autoZero"/>
        <c:auto val="1"/>
        <c:lblAlgn val="ctr"/>
        <c:lblOffset val="100"/>
        <c:noMultiLvlLbl val="0"/>
      </c:catAx>
      <c:valAx>
        <c:axId val="75336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FF8-2D5C-4124-9675-374C5221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679-46B2-49C8-AD35-57F0F49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C28-9EF4-461A-8DDB-48494AB6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412-2294-43A8-BA02-B45A3CF4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115-DF84-4360-BAA2-D2F35A5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97E-12D9-4906-A3FB-B840B04D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86D-7F1E-4DDA-AF58-976C2D1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A0B-3CE8-4CA0-8EA0-FFFF261C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573-F954-42CE-B5CE-7189F720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801-4803-4F82-8837-DE2F453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275-2662-4B11-ACD0-AF6FADB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3A7-0E49-44DD-9B58-723EC85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BE68D-8363-40C5-B980-F4DE63ADF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