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576398"/>
        <c:axId val="21872545"/>
      </c:barChart>
      <c:catAx>
        <c:axId val="685763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872545"/>
        <c:crosses val="autoZero"/>
        <c:auto val="1"/>
        <c:lblAlgn val="ctr"/>
        <c:lblOffset val="100"/>
        <c:noMultiLvlLbl val="0"/>
      </c:catAx>
      <c:valAx>
        <c:axId val="218725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763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2D93-5DBB-4AA6-88DF-DA324633E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D9C9-60D4-4409-AD43-D9E6C3BC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04CD-C7D2-4617-BD11-A02820B54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1BE7-9661-4CE1-96E7-0FC1E8E63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BA4C-4590-463A-89DD-FC942D3E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7C3D-B6FC-42D9-AAD2-026EDF50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28B4-1DD0-4EFF-9D78-892320AE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24F5-EBB0-45AE-A4B5-4F15D70C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97C5-DC87-4427-853E-7D286C95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FCAE-8E86-4649-8CB3-41B0A580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ADFB-4720-4F9C-B6EF-F7C79F37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1B8E-F0C9-4E9B-8DE0-9F6FDE9B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4F415-22AA-4C3C-A9B4-77279B0037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