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05008"/>
        <c:axId val="77303509"/>
      </c:barChart>
      <c:catAx>
        <c:axId val="30705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03509"/>
        <c:crosses val="autoZero"/>
        <c:auto val="1"/>
        <c:lblAlgn val="ctr"/>
        <c:lblOffset val="100"/>
        <c:noMultiLvlLbl val="0"/>
      </c:catAx>
      <c:valAx>
        <c:axId val="77303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05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68C-11DA-4B5D-851E-5E5201EF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CC1-4C07-40FB-900E-56E6FB99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816-AA6F-44BE-B63E-A4E7FED3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7E2-E8F4-4CA1-AF3F-3126088F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D6B-A2FB-46E1-8768-7A4124A5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42B-1E2E-435E-80B4-4B61FEAC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D7A-D1EB-473E-B7B8-14754825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A85-FF6F-49B2-846B-B4FDBFB4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E8C-514E-4359-9CE8-E14DF095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21D-C9EC-49E6-B1CF-6A8DF3CF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8D6-BD24-4244-8B13-F0ECCF5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B19-35E9-46BF-BCA6-0E427FA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15D50-D784-4B16-84BA-F66EF631E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