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50060"/>
        <c:axId val="72186010"/>
      </c:barChart>
      <c:catAx>
        <c:axId val="55750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86010"/>
        <c:crosses val="autoZero"/>
        <c:auto val="1"/>
        <c:lblAlgn val="ctr"/>
        <c:lblOffset val="100"/>
        <c:noMultiLvlLbl val="0"/>
      </c:catAx>
      <c:valAx>
        <c:axId val="72186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50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CDC-D35B-4E93-9ED9-C9A2A3D6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66B-D27C-4AF6-9F24-C223603C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4FA-DBFE-4972-BC25-E3782383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46B-B206-4C91-A2A3-0E8EE5E4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664-3428-4DB6-8DAC-5D04BE98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82F-C6CA-458F-8AF3-28BD15D0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E62-114F-4EE2-B733-3AA9DE22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55F-94AE-48F3-A447-3E1CF27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E2C-E7EB-46B4-A4CB-A067DB3E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21E-7869-4E0E-912E-C13017D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495-A504-49A6-A5D0-3065CDDB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5D8-6524-46FF-9A72-39FFF124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E0F4-3108-4EEF-984F-B34C75E4A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