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95670"/>
        <c:axId val="97295191"/>
      </c:barChart>
      <c:catAx>
        <c:axId val="37995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95191"/>
        <c:crosses val="autoZero"/>
        <c:auto val="1"/>
        <c:lblAlgn val="ctr"/>
        <c:lblOffset val="100"/>
        <c:noMultiLvlLbl val="0"/>
      </c:catAx>
      <c:valAx>
        <c:axId val="97295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95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AE9-348D-4A1A-8CD6-E371DFF2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0F3-AFE4-4E3F-8D4A-013CE89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436-C6B8-4C05-8F70-10B2F736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C31-7E72-4AF3-ADF8-9EAFA6FC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0FF-1FF5-4F5E-8C33-B230736F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F62-2E52-454F-8763-BCDF286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CE7-B2AD-40E4-8EB8-F4555E5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64E-17B8-4068-82FB-3A50B954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E53-2891-4F67-B928-611EBFEF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B9C-6B05-41D8-B318-0FEBD30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280-872F-42C5-9B38-87E3A336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F84-7F6B-4981-BC30-82953EC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0DF2F-EC4F-4C50-B256-B4C3CDF1D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