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3100"/>
        <c:axId val="35551988"/>
      </c:barChart>
      <c:catAx>
        <c:axId val="4303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51988"/>
        <c:crosses val="autoZero"/>
        <c:auto val="1"/>
        <c:lblAlgn val="ctr"/>
        <c:lblOffset val="100"/>
        <c:noMultiLvlLbl val="0"/>
      </c:catAx>
      <c:valAx>
        <c:axId val="355519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3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089-C330-4E3B-A222-29CB5E5E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F32-DF67-4CD1-977D-F4C4B1A7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652-01BB-47DC-A92E-75809667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77E-8F5A-4753-9697-EEE4DB03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027-DBDB-40DE-8C68-8B263197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45B-05A7-4B95-BEA8-632B57E2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199-2218-4BF6-9CDA-7827E90F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461-D51D-4B82-A8CE-E4DAFB4E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7E3-EE3E-4982-B57B-2CDCC2BB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511-2C79-43FC-B292-21D09399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B7F-FD38-4F8E-ABB5-CBD1BE73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41A-14CB-42E2-8E59-05CA19D1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AC272-25DD-42BC-BBD0-5F54BFF5D2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