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39995"/>
        <c:axId val="57746341"/>
      </c:barChart>
      <c:catAx>
        <c:axId val="17639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46341"/>
        <c:crosses val="autoZero"/>
        <c:auto val="1"/>
        <c:lblAlgn val="ctr"/>
        <c:lblOffset val="100"/>
        <c:noMultiLvlLbl val="0"/>
      </c:catAx>
      <c:valAx>
        <c:axId val="57746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39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758-1A14-4C80-85F3-F51558CF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E13-7853-449C-8421-6239F5A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5C1-B0AA-4204-8A35-491A1783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1D8-6022-4C4E-8A71-63BCD4E5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FCB-85A9-4094-BB4E-C8E15392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C60-4AC5-4145-9EB3-13831FF3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A1D-5733-4F44-8C63-FB3E4FC0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038-C228-4675-AAAC-51BA1A52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EA7-DFAB-4CFB-8BB6-947BF26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198-26CB-4571-86BE-1389A76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051-7B8E-4774-A629-FF9FDA0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07F-2488-4369-A8C8-565C18A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7958E-B580-4798-8E3D-0DC1E64C00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