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69066"/>
        <c:axId val="3418263"/>
      </c:barChart>
      <c:catAx>
        <c:axId val="96869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8263"/>
        <c:crosses val="autoZero"/>
        <c:auto val="1"/>
        <c:lblAlgn val="ctr"/>
        <c:lblOffset val="100"/>
        <c:noMultiLvlLbl val="0"/>
      </c:catAx>
      <c:valAx>
        <c:axId val="3418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69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CAE-B41F-49D0-B4F6-0629380B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38B-7ABF-4C91-9F52-6A9E26FC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883-032C-45F5-9F3F-5AE81128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304-F3BA-4241-9011-E996394A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493-6528-4966-8821-3B10F43A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83D-170C-4FDE-8B60-9266449F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CB3-CB42-4547-A5DD-3E3A2337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D43-0F95-4949-BE71-266B98E4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4A5-7E53-4D60-A2D2-00E6D41E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233-D1F6-493B-997C-C507C508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A11-DCBD-4007-87ED-C19E2A7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877-ECD9-4D7A-9D69-80DD3615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213B4-AD85-47FA-BB76-AD8356AA7E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