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69350"/>
        <c:axId val="71302187"/>
      </c:barChart>
      <c:catAx>
        <c:axId val="34869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02187"/>
        <c:crosses val="autoZero"/>
        <c:auto val="1"/>
        <c:lblAlgn val="ctr"/>
        <c:lblOffset val="100"/>
        <c:noMultiLvlLbl val="0"/>
      </c:catAx>
      <c:valAx>
        <c:axId val="71302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69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5D5-4969-4EF3-A5B5-C53A76FD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821-DBDF-491B-86C6-36D1C88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C86-A7AC-4D87-80CE-D71BA580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87D-8B22-48F7-99C2-098C1D09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CF1-547A-4B07-A764-03A2CCA7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227-7A8E-4335-8F8A-13458047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A48-6AE2-4223-BCD5-87ACE213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E65-8382-4B1C-8F7D-CE76122D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C5C-8E34-4CFA-B300-63656959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4FC-A4F2-4C8A-B953-96E48EF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F37-65B4-4630-AF89-36B667B7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C71-02C5-4D9F-A17F-A2A3AA44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C6292-7306-4292-AFEB-AF77F9DA3E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