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178009"/>
        <c:axId val="78205485"/>
      </c:barChart>
      <c:catAx>
        <c:axId val="681780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205485"/>
        <c:crosses val="autoZero"/>
        <c:auto val="1"/>
        <c:lblAlgn val="ctr"/>
        <c:lblOffset val="100"/>
        <c:noMultiLvlLbl val="0"/>
      </c:catAx>
      <c:valAx>
        <c:axId val="782054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1780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1831-9A55-45F6-9E01-435D6E6CB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7964-651C-4999-A0F9-AC10296D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F482-21C5-4801-856E-038032D89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06D3-9165-4145-93EB-9CF1A3E76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8C52-718D-4ABA-85FA-6DDAE2CA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DDFC-3F44-4223-A16D-D763C134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1BF7-AAC1-417C-8054-1572E9A1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AB5A-A56B-475B-A6CF-24DAF034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7FCC-6F96-4754-B71A-FCDE21A7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8328-929B-4F46-AF36-C18C4F23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C20E-8916-4F05-AA08-C88F311E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E1AB-8B17-4053-82F5-ADDCA437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4B48C-D491-4163-BFF7-EE9A483D91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