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64039"/>
        <c:axId val="90541634"/>
      </c:barChart>
      <c:catAx>
        <c:axId val="86064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41634"/>
        <c:crosses val="autoZero"/>
        <c:auto val="1"/>
        <c:lblAlgn val="ctr"/>
        <c:lblOffset val="100"/>
        <c:noMultiLvlLbl val="0"/>
      </c:catAx>
      <c:valAx>
        <c:axId val="90541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64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E71-70B0-44F2-AE06-445ABA6F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B8D-B866-4C2B-BF0C-F2ED116C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2A9-0573-4058-881D-A062F78A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164-FBA2-4B0A-90F9-0F024221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401-323D-4D79-8E1D-A0B0D916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C34-F7FF-47A9-BED2-AE51ADF6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546-7AAE-4975-8906-2C4DC7AE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A9C-B4B2-4C1D-9D89-BBD998A9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C0D-AA72-4758-8A46-422CE699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E41-C6C0-4195-A15B-F9CC6B96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EB0-0967-44B2-9946-554171AA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F0C-6FDD-47C9-BAA5-4B08037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606CD-67A1-45A7-AE4B-146FE7E8F6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