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3221"/>
        <c:axId val="43417831"/>
      </c:barChart>
      <c:catAx>
        <c:axId val="6713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17831"/>
        <c:crosses val="autoZero"/>
        <c:auto val="1"/>
        <c:lblAlgn val="ctr"/>
        <c:lblOffset val="100"/>
        <c:noMultiLvlLbl val="0"/>
      </c:catAx>
      <c:valAx>
        <c:axId val="43417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3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52D-3C3F-4C67-8C79-A5E38AE3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AFB-BC60-47D5-84AA-F0CF554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611-F09D-495F-B209-D4F085F3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89F-3EBB-4075-816F-7C92842F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0A0-AF6E-4CCB-AE3B-7A2F7E2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F4B-DB8F-434C-9AF7-3D07F6D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DBA-BC11-4547-992E-A1BA9C32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B31-9E64-4553-88F2-7274146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C2C-9531-4711-B5B2-0BA059EE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352-9A1E-4684-A35F-ABB059C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D36-EEC1-4152-BD4B-EBF9182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7B1-CCB6-452B-82E6-DD7E309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B7734-73EB-44D2-9C26-A6481B2E9C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