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550412"/>
        <c:axId val="68577825"/>
      </c:barChart>
      <c:catAx>
        <c:axId val="125504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77825"/>
        <c:crosses val="autoZero"/>
        <c:auto val="1"/>
        <c:lblAlgn val="ctr"/>
        <c:lblOffset val="100"/>
        <c:noMultiLvlLbl val="0"/>
      </c:catAx>
      <c:valAx>
        <c:axId val="685778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5504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796E-8EB5-4BB0-BE23-96B373484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FFF8-E096-4624-8E80-0EEF1555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BF12-09B6-4D77-8D0B-499513F81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A56D-A9D3-4CAE-A72F-58F96EF8F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5862-7F3B-416D-9848-517F2F61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47B1-1ED7-4F75-9B2C-99AD52B0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40A0-FE7E-4DAC-B722-AFEC436F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332C-D3E7-49C7-8590-E885E0DE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D5C5-3CB9-4F0A-9775-616C607B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565B-C59C-4EAD-876E-5863F26F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5B50-5205-47D9-AA7C-C9C36572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F59F-4C0D-4E39-A2FC-C5D980ED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9CD45-BEA4-4867-A118-27567751B7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