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270425"/>
        <c:axId val="81382057"/>
      </c:barChart>
      <c:catAx>
        <c:axId val="492704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82057"/>
        <c:crosses val="autoZero"/>
        <c:auto val="1"/>
        <c:lblAlgn val="ctr"/>
        <c:lblOffset val="100"/>
        <c:noMultiLvlLbl val="0"/>
      </c:catAx>
      <c:valAx>
        <c:axId val="813820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704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9B98-E4F3-4BD7-89EB-3538F9D8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15F-8E8B-44D2-A1E0-06C281AB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BF0E-0BE9-4D8A-8603-95B6DAA6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5C20-123C-4BD9-9E17-44EFE77F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43B9-6B35-4C4B-A9F3-D0B36F04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AF9-1EC5-4561-999C-AA341454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E14-C098-4876-8FCF-6175469F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061-5805-4391-AE13-B506C91B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6ACC-824D-4EAF-817E-70D6C659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3AAA-D413-4404-BE52-8BF8D6DA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CE29-78A1-49FB-87D4-123C2DE3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1E7-7C66-4A94-A133-705C7B28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A2E29-C7FD-491E-AB88-8C2BDF1D84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