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91477"/>
        <c:axId val="48772047"/>
      </c:barChart>
      <c:catAx>
        <c:axId val="64091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2047"/>
        <c:crosses val="autoZero"/>
        <c:auto val="1"/>
        <c:lblAlgn val="ctr"/>
        <c:lblOffset val="100"/>
        <c:noMultiLvlLbl val="0"/>
      </c:catAx>
      <c:valAx>
        <c:axId val="48772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91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069-E538-48A1-B9B0-0C33A331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BF-95D0-4AC0-BBDE-80C6309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5F0-B403-4D5F-8CBD-A74FD3C8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91C-07CC-4F18-B8FD-C32711BD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D74-8055-4970-BEAC-F8F6844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54E-A728-4D2C-930A-B858E9B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E84-71E0-476E-BC30-24D11F9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43-55B1-41F1-BFDC-FACA21A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F93-55F2-4771-A709-8F8BEE1E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6DA-363F-4053-A425-13ADA821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FAF-7AAE-4E66-A00F-A63B26C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590-5B9E-40EA-8B7F-129A4905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FC8D5-B9F2-410C-888A-D4FDC5976D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